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" name=""/>
          <p:cNvSpPr/>
          <p:nvPr/>
        </p:nvSpPr>
        <p:spPr>
          <a:xfrm>
            <a:off x="1003320" y="4879800"/>
            <a:ext cx="11010960" cy="0"/>
          </a:xfrm>
          <a:prstGeom prst="line">
            <a:avLst/>
          </a:prstGeom>
          <a:ln w="1260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64836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01700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386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755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12364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5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6872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3512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00188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6864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3504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67428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2564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7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28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7900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9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5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41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7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13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15920" y="1917360"/>
            <a:ext cx="10972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Investigating Slope Intercept Form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15920" y="5016600"/>
            <a:ext cx="109728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hapter 6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484320" y="939600"/>
            <a:ext cx="4831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 y=3/2x - 2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267600" y="901440"/>
            <a:ext cx="4831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 y = 2/5x-1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879880" y="799920"/>
            <a:ext cx="687060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59680" indent="-55800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e base pay of a water-delivery person is $210 per week.  He also earns 20% commission an any sale he makes.  The equation t= 210 + 0.2s relates total earnings t to the sales s.  Graph the equation. 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Important Definition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77680" indent="-5698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Marker Felt"/>
              </a:rPr>
              <a:t>Linear Function - A function that graphs a line.  Direct variations are only part of the family or linear functions.  For example, y=-1/2x + 1 is a linear function, but not a direct variation because it doesn’t go through (0,0).</a:t>
            </a:r>
            <a:endParaRPr b="0" lang="en-US" sz="2600" spc="-1" strike="noStrike">
              <a:solidFill>
                <a:srgbClr val="737373"/>
              </a:solidFill>
              <a:latin typeface="Marker Felt"/>
            </a:endParaRPr>
          </a:p>
          <a:p>
            <a:pPr marL="877680" indent="-5698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Marker Felt"/>
              </a:rPr>
              <a:t>Parent function - The simplest equation of a function.  </a:t>
            </a:r>
            <a:endParaRPr b="0" lang="en-US" sz="2600" spc="-1" strike="noStrike">
              <a:solidFill>
                <a:srgbClr val="737373"/>
              </a:solidFill>
              <a:latin typeface="Marker Felt"/>
            </a:endParaRPr>
          </a:p>
          <a:p>
            <a:pPr marL="877680" indent="-5698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Marker Felt"/>
              </a:rPr>
              <a:t>Linear parent function - y=x</a:t>
            </a:r>
            <a:endParaRPr b="0" lang="en-US" sz="2600" spc="-1" strike="noStrike">
              <a:solidFill>
                <a:srgbClr val="737373"/>
              </a:solidFill>
              <a:latin typeface="Marker Felt"/>
            </a:endParaRPr>
          </a:p>
          <a:p>
            <a:pPr marL="877680" indent="-5698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Marker Felt"/>
              </a:rPr>
              <a:t>Linear equation - an equation that models a linear function.  The variable cannot be raised to any power other than one in a linear equation.  EX:  y = 2x is a linear equation, but y = x^2 is not.</a:t>
            </a:r>
            <a:endParaRPr b="0" lang="en-US" sz="2600" spc="-1" strike="noStrike">
              <a:solidFill>
                <a:srgbClr val="737373"/>
              </a:solidFill>
              <a:latin typeface="Marker Felt"/>
            </a:endParaRPr>
          </a:p>
          <a:p>
            <a:pPr marL="877680" indent="-56988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Marker Felt"/>
              </a:rPr>
              <a:t>Y-intercept -- the point where a line crosses the y-axis.  </a:t>
            </a:r>
            <a:endParaRPr b="0" lang="en-US" sz="2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50680" indent="-5522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r each of the following graphs, find the slope and Y-intercept.  An equation of the line is also given.  Using these pieces of information, try to describe a linear equation written in slope-intercept form. 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850680" indent="-55224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HINT -- it may be helpful to isolate y in your equations.  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755760" y="977760"/>
            <a:ext cx="474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y+1 = 3x   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640960" y="812520"/>
            <a:ext cx="1562040" cy="4559400"/>
          </a:xfrm>
          <a:prstGeom prst="line">
            <a:avLst/>
          </a:prstGeom>
          <a:ln w="25560">
            <a:solidFill>
              <a:srgbClr val="63a0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783120" y="939600"/>
            <a:ext cx="5070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 4y - 8 = -3x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99" name=""/>
          <p:cNvSpPr/>
          <p:nvPr/>
        </p:nvSpPr>
        <p:spPr>
          <a:xfrm>
            <a:off x="1168560" y="1244520"/>
            <a:ext cx="4559040" cy="364500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100920" y="838080"/>
            <a:ext cx="4479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 y+5 = 3x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755440" y="2197080"/>
            <a:ext cx="1295640" cy="384804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596880" y="800280"/>
            <a:ext cx="5245200" cy="5257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6471720" y="736560"/>
            <a:ext cx="505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Equation:  5y+15 = 2x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638000" y="3162240"/>
            <a:ext cx="4102200" cy="157500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5040" indent="-587520">
              <a:lnSpc>
                <a:spcPct val="10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If you were to write an equation to describe a graph of a linear equation using the slope and y-intercept, what would you write?  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marL="9050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90600" y="812880"/>
            <a:ext cx="122047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If this is the equation for slope-intercept form, what does each piece mean?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y= mx+b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Marker Felt"/>
                <a:ea typeface="Marker Felt"/>
              </a:rPr>
              <a:t>Use this information to graph the equations on the following slides.  </a:t>
            </a: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